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865-9CF1-438B-BC34-757658F7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210-6106-4FB9-9C53-ABBA0D35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61F-758D-4061-80C8-888A13FD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B8E-017E-425A-85A3-929B6D65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4AA-1B5D-4166-B70C-39ED88B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181-4E29-41A5-940B-62CF15DA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5D6-656D-494E-ADED-1FF0538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6B5-0D73-40B7-9D61-2842BE2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CE3-CDC2-4FD3-83BE-6735FD4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ECC-F771-4EBF-8A36-28E52BA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EC3-000C-40B8-B744-1E1D1FA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AE1-D94F-47C5-924A-C7CC847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E1F-87AC-4DD5-9D35-D6C5123562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800" y="1447920"/>
            <a:ext cx="449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5867280"/>
            <a:ext cx="1219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095880"/>
            <a:ext cx="4876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16Z</dcterms:modified>
  <cp:revision>210</cp:revision>
  <dc:subject/>
  <dc:title>Slide 1</dc:title>
</cp:coreProperties>
</file>